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72F-16B2-4DC9-B4C8-F1FD61713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D9FF-475D-4B3A-8B9A-73920F23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7AAA-5075-41A6-A7F8-22D9E6387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D5B-1C5E-441A-8596-B1E34ECAB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F742-BCB4-4D46-9146-269689A3C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9D30-5F3E-425C-858C-5BA280B78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08F-77DC-4FD2-AE98-FE52E8DD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31E-4925-4AD2-A908-09A948F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172-ECF1-4C30-8658-4C611EAC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BE4-0F85-42DC-9E71-6DCF43BA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352-75D8-44FF-946C-66058DD0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BFB-BF47-408E-8C23-F466F88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9CC-F3E7-4697-905B-25A09714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9DD-0D48-4668-98F9-2528392D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F1B-0546-4271-A9B6-8E06B5F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E86-29BB-48BC-ABC1-ADFAFA3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863-2C93-48E5-B563-0692389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21F-45AD-43A6-9550-D3BE12C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8601-DE3F-4F14-8A9D-E5D91613A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</p:spTree>
  </p:cSld>
  <p:transition>
    <p:pull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8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07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49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55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59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4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74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chmorgan</cp:lastModifiedBy>
  <dcterms:modified xsi:type="dcterms:W3CDTF">2013-03-14T16:26:28Z</dcterms:modified>
  <cp:revision>33</cp:revision>
  <dc:subject/>
  <dc:title>Multiply Polynomials</dc:title>
</cp:coreProperties>
</file>